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23FD-FB77-4330-AB70-FEDB26AA5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A80C-9D12-4572-93C3-41C72CFE2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0E7D-406D-4BAE-8886-33A620AD3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3352-001E-4F70-A569-022E8D992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CAEA-885F-4DC7-B545-94CCFE0228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08C3-EB4F-4895-9B04-2DF72829F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09D3-8A6B-4F57-B2C0-F9AE533A4F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40DB-D8DB-477D-A86A-4395702EB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6472-E2DB-434B-BA79-6C7E43C740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87BD-8331-4C7D-A092-47527BB766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6CF1-823C-40AB-AC99-705088679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C439-09A8-463A-8369-BB2054F7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6079-112E-4E87-80BB-E100D5C4A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06F0-75E8-4A94-8DC9-596D98DF7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494F-7B28-461F-828E-C0C88863AD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2AC7-B5EC-48FB-905C-C937FB8C74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071D-55CD-4B04-9AAA-8020F61B9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2CE3-CA80-4622-9876-146B58062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1549-C8DD-44F7-9364-E0FAA4BE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B5A8-5759-49DD-93EB-D4336221C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1513-8524-462F-83CF-4B61B7CEA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7A61-77FB-4D51-ACFE-BACD4F39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BACF-BC51-4F39-AF2F-0655D5335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5FD4-35CA-4CF1-80E8-A0FBE7DE3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65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EAD-D57F-4622-8658-625B16157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468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AB69-C875-484D-B2DB-81FF76B013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09588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-D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20th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ms of at least 5, no more then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ject requiremen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ef Description of a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Narrative of a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&amp; A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low Diagrams (context, level-0, and level-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via Wi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s will come from Process Classification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81FE-E792-435C-8E33-8CC396031AD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480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00-5:45;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4th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6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